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69A-4632-4F05-80D5-B058E18F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034-6632-4D08-9DDF-C30EDDDE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6CA-AAE4-46E5-BED3-0B163421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067-635D-48E5-9CB8-AEAE7709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8CF-A91C-463C-BDD0-D7F56B36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A27-E8EB-4519-990F-07A0FCF7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56C-0D18-4F5D-8DA9-2CC3052D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D55-5ED7-47DF-AB5F-ABA40FA4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9D1-0625-4CC0-9173-94800BD5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5CD-7866-49BA-A738-A2BCF23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748-4CE8-4CF3-B92A-C4A3CFC9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9C1-0805-44A7-B462-C45E16FB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942C-2787-4D91-A4C4-5DC08805D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1 Zaspievajme radost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pievajme radost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vďačnej chv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Boh je dopos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milosti k nám st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ovým vzkriese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il nás pút hrob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to vďačne spiev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jme chválu Boh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us spútal hriechu 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adby zloby lá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vetle kríža z Golg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ý život m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, tvoj osteň, kdeže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tvoj triumf istý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platil dlh Baráno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vinný a čis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ovi patrí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leba a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zásluh nám hriešnik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ú spásu 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ar toľkej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úcnu vďaku vzdaj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je náš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ývajme ho, chváľ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1:23:30Z</dcterms:modified>
  <cp:revision>34</cp:revision>
  <dc:subject/>
  <dc:title>Je veľký náš Pán, on slávy je Kráľ Nech do všetkých strán  spev vrúcnych znie chvál.</dc:title>
</cp:coreProperties>
</file>